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zorro-shor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E08-CD39-48F9-AA56-5515F85D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317-D9F2-424A-9695-4227C3E5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57E-6D14-4674-9591-E3DDD788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48B-2604-4F74-A2C9-18C44A26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98E-9130-481A-8B5C-6C0338B3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20F-9BC7-4C9B-9B87-79622C97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3D9-A64E-43D6-A3DF-5A53CC30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EC6-387B-4098-8640-6AE52177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5C3-D6D8-4B51-9E60-523835C4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0AA-134B-43FF-A716-66CB1258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05C-A3A3-43FE-92B8-C2921466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EDC-A854-4DDD-9B78-C2E36D1E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C268-88D2-44BD-9CBD-4D5ADD091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orro-sho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lass 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43000" y="1143000"/>
            <a:ext cx="6934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el of Fort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Picture 6" descr="girl_taking_test"/>
          <p:cNvPicPr/>
          <p:nvPr/>
        </p:nvPicPr>
        <p:blipFill>
          <a:blip r:embed="rId1"/>
          <a:stretch/>
        </p:blipFill>
        <p:spPr>
          <a:xfrm>
            <a:off x="3048120" y="1905120"/>
            <a:ext cx="25905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zorro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each student an index card with a number from 1-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are instructed to write a review question, math problem, or spelling word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he Spin But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wheel hits the number on the index card, the student chooses who will receive the question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4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4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5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6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4572000" y="1066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1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5"/>
          <p:cNvSpPr/>
          <p:nvPr/>
        </p:nvSpPr>
        <p:spPr>
          <a:xfrm rot="4344000">
            <a:off x="5714640" y="182880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24:23Z</dcterms:created>
  <dc:creator>Connie Campbell</dc:creator>
  <dc:description/>
  <dc:language>en-US</dc:language>
  <cp:lastModifiedBy>jskidd</cp:lastModifiedBy>
  <dcterms:modified xsi:type="dcterms:W3CDTF">2009-11-13T20:21:06Z</dcterms:modified>
  <cp:revision>6</cp:revision>
  <dc:subject/>
  <dc:title>Wheel of Fortune</dc:title>
</cp:coreProperties>
</file>